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2876A-C975-4CCB-8FA0-9594218084D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86C38-D25C-4A66-A00B-3884C65CC27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39643-A584-477B-A66A-1D2E65E8C2A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6B8E7-18D0-43AF-9A99-906F954EFA3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827A3-9903-48AC-A456-38FECE449DD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6735B-8A46-499E-AAE0-63C18B2F13A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C71E8-B2B4-4A5F-B552-74015CF2384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D6054-B33E-45B2-AF54-D7767477A9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1F312-7011-4A4C-AC31-52080E9E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F0C68-1353-4F61-A5F4-717B02B8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B4782-FD30-4B30-B999-7AC4C3B6B7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FD1C0-0922-4938-88B6-06AF4743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9CFFE-08DB-4D24-82EB-D37F264B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F7E55-B284-4E79-8E6E-20C436D9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56AB8-45B1-4CF0-8177-382BD3FA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61955-7E47-4642-A480-815CF546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34EAA-1589-495D-93EF-3629A8A7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F760C-AA65-498D-BBC6-01BCAB81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950D8-4289-41DD-8002-CC0E3970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0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417B84-4F4D-4E78-8D6C-1B15C2CC56D0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dinámic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EVOLUCIÓN DE UN RELI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volución de un reli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1260360" y="3240000"/>
            <a:ext cx="6766200" cy="2806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formación de cordill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539640" y="1413000"/>
            <a:ext cx="306072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cordilleras se forman en placas convergentes en las que hay litosfera continental en una placa (o en ambas).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empujarse, la litosfera continental se pliega y se eleva formando cordilleras paralelas al bor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1979640" y="3573360"/>
            <a:ext cx="1128600" cy="5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4932360" y="1557360"/>
            <a:ext cx="33829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agentes modeladores del relieve, como el agua y el viento, tenderán a suavizar el terreno, llevando materiales de las zonas más elevadas a las más baj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H="1">
            <a:off x="4047840" y="2924280"/>
            <a:ext cx="1028520" cy="10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187280" y="3240000"/>
            <a:ext cx="6732720" cy="27910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volución de un reli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898560" y="90792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apertura y cierre de los océ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39640" y="1628640"/>
            <a:ext cx="3060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los bordes convergentes,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placa oceánica se va hundiendo en el manto, por lo que el océano se va cerrando hasta desaparec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2556000" y="2852640"/>
            <a:ext cx="799920" cy="135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4356000" y="2060640"/>
            <a:ext cx="31687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los bordes divergentes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placas crecen, y con ello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océano, que se ensanch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6012000" y="2924280"/>
            <a:ext cx="28872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</cp:lastModifiedBy>
  <dcterms:modified xsi:type="dcterms:W3CDTF">2011-07-27T09:28:16Z</dcterms:modified>
  <cp:revision>44</cp:revision>
  <dc:subject/>
  <dc:title>Diapositiva 1</dc:title>
</cp:coreProperties>
</file>